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461-0BB6-4067-8CA1-CE56784A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1D0-0E4C-4D83-84D4-219BC087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5C09F-71C8-48AA-A85D-0676588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F45DB-AE4A-4B78-A620-96399481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AE761-7854-4A2E-8290-0E9F332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6DF8-F215-4BD5-96AA-0FD06DF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04997-EF4B-4977-943B-2A47A6E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4196-A652-456F-93E4-186DA3A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7F52-2F96-40FD-882E-4C03E35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CB92-28D6-4F55-80FC-8598281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AE202-5D10-4375-A1CE-44E7890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17C0F-7A28-4CF2-8385-783512A1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9E1-F040-4C0E-BF64-353DDA68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D54ED-FA41-4D13-B5C8-0E0706C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31C4-1499-422B-B453-D62DAD62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09FD-A8FF-46AC-9394-DD0563FE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0E763-7D43-4E6D-AC4A-C6DC456E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C2B8F-93B9-4D5F-97DF-430BA5D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A4263-9573-4EE4-B416-9A849CF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E480-A55F-4380-B485-C6EFBF5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5B82E-7AEA-4EB6-A0FF-CB0CCCA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4CCCE-E03A-40CC-A8FA-0E290FA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5699C-701B-4D2C-AD0D-F8EE9FA3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C09-9779-4692-A17F-EF78BB0B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73B6A-498F-4E7C-8048-C3144B6C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8C6B3-FF8A-4FC3-9DCB-59FD5E5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AF993-FFDE-454F-B009-59560DA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B255-7D9B-4959-992E-446BC89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D504D-A2EE-4AE2-B283-B45095A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4E2BE-8966-4FFE-9E73-A8B4BAF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C6796-1C6D-4231-B64C-5CDB0DB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22168-3AD7-4FB1-93E3-50A7F84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8463-440D-46E6-8889-BB8110A4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6B99C-E56D-4CA1-98AF-6C2F7A4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DEC-359B-4D4F-B53D-305C8B8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505D-0A3F-4323-9D0B-9CA11B6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AB30-4B43-4294-866F-A20C9898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3AD08-3058-4741-BB99-84A9BD03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1616A-3CF9-4105-9B3D-B6DBA81C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14529-3936-47F8-9DEB-CF91846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25C50-00E9-46A3-86F6-FA84C73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8182F-04C6-4211-A06D-1FFB160C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5763B-7EDD-4554-B07B-46B68E7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60768-8C9C-4B5C-A546-BE4DCFF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800C4-1C22-4AE2-9637-570C7FC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04B-8BE0-4DEE-ADCD-3019B47C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A3D96-FC17-4D0F-9487-CB40757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F9E13-3AFD-4E2D-B795-CD28763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8AC0A-8947-4FE1-8AD3-6259D06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4D62C-0AAD-453D-A437-888BA1A3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326C2-AF3C-44F4-B32C-B761E220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B3273-3500-4AEF-8FFF-16AB206A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49A09-0DFE-44E5-8740-1AEF8DC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31181-D87D-45AB-94F8-73B6891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DB272-BC96-47BA-A3ED-415FCA0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2189A-EC29-4573-A0AE-67753674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E575-60B2-4DB8-9265-D97950DE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07825-ECFE-4A87-96B3-620B2F1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832DC-1AE4-4737-857B-4E9F744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A5A3E-278B-4CD1-BE1B-A395CFB2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64921-DD2C-40CC-A5BA-05EE056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9072F-881D-45A8-A5F5-BB7CE82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9FA4B-15A7-4E15-A580-E282502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EDE93-4DA1-44F7-905B-9F009ADB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B7C78-7C74-4866-8A95-4E36034F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1E8FB-3F09-456A-8AF7-3C8C80E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48CD1-E0EB-45FF-BE1C-FB086E6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7CFE-7811-4A47-8E47-7BA472DF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BA2E7-9B06-4E40-B32E-B01D22AD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24336-DF65-46D6-A313-D6E747F1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3E393-E220-43E3-BFB7-CC172AB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6CA48-B118-4992-A749-0CD956C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E4E79-648C-4C48-AE84-9508057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395D4-D80E-42CC-B05F-019931B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C2051-5E7D-44B3-AC76-C3F2C1F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0D9CB-CCDE-4FD7-B176-9549B6D0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B0B5C-F9FC-4211-8FD7-254B9BFD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07A11-9A86-4465-B228-FFA882B7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D2E-669B-462E-BB8E-01513B2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A59BC-2200-459E-853E-323F762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CD10E-CB23-455D-BFAB-D69D2AF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180F1-029D-4B79-8574-11E0613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6D639-482A-4E3E-9DD6-2C2D8C1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A5BC9-D5D0-4334-9D19-CA40E18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D6A7F-C747-4FD4-8452-A6FAD89F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0CB19-1178-48AB-9321-CC26C6F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6862F-084F-405D-BF77-F9049B1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05BBF-3FC0-4F92-8FCB-C0FBFAC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CB940-E3F9-44B8-B171-75D589AC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9BB-9BAF-48D3-8CB6-E407793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D0B5B-3E67-42CA-8189-E5148A5B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5AE77-BA7A-4952-A234-1784F187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4FD4E-94E7-4AC8-A013-4E028A6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4C040-E68F-498E-981D-3187496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F18FB-698B-4D8D-A418-68D475F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F927DF-8B26-466B-87E8-3267E858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AECC6-554D-4306-8DE7-A482983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68630-1909-4A7D-BB66-6424238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80368-AD23-4FC8-8CCB-DC88CCF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B22BE-FED0-4938-B525-65ADE02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D92B-0CBC-4AC7-86A4-39373C2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1CBA6-9998-4331-B6E2-295B0FE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86C95-73D5-42D6-A001-32E16BBA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83C8C-0438-45B9-ACE4-A5415D65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E7092-F216-4783-BA3E-C39B3EA2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CA4A8-931B-4ABE-A486-E444BB1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49699-5B56-4C4E-87AC-DEA0CE9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7ADBE-E962-4924-9486-25278DA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BC910-A6D4-4371-8946-E38127EF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D3925-BCB2-478C-86A6-D6B8B65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C1EB6-EF62-44AB-A43E-C62781B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B1D-67B2-4846-B4F0-9722249B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1765-8477-4DAF-A4B0-ED11746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D3793-0270-47AF-8592-F189B0D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0CD4E-D7C3-4247-979D-B68769C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3A848-078A-494F-9CF3-A2C3B77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0E852-7DC8-422E-B454-88834925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72153-F752-477C-8236-BCF7760F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6599B-E238-4FD5-9B35-10260337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32BBF-A6BF-4F09-9355-30B2A9D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F6E82-41F2-40D1-B084-CCB7EC1E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C3E08-65D7-443B-981E-B3813C1B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AE587-E262-44C4-A65A-3C8B60C1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9500-AEEC-442F-B661-034E0C7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C1F26-A76F-4E42-9574-AB73941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E622C-9906-4C13-9D80-CDC59C6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D48B6-D4CD-4162-87BE-2645635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ABF16-F9CB-4C36-84F0-511810A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FCC44-8CBA-4464-BD6B-BE45808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2CCE5-9DA7-4906-A47F-C7178B07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937D6-309E-4911-AE60-FAB2D63A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00499-9230-49D8-BE89-9F5F0159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90AF3-7F32-4B4A-A856-9483ECC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E9C5D-3F71-4768-BB2D-857A3C4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0EA-93E3-4963-BC8F-67CD3F3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DF1C8-4747-4B05-A9E4-6830FD56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4C6B7-0A8F-4615-BD6E-12724BC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7A4CD-4E8B-41AC-9DFE-85D4C3A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CA912-EF4A-4C08-983D-72111E6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8A0E2-5A19-4353-8841-D5E5073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6FD8D-077C-40B6-9C87-253EC18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B864A-2D26-49BA-8E34-3296EBF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C6D0C-6BBB-4B66-B665-1B524F63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0E224-A757-4475-A93D-7A44E65D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6D85C-B48E-4C30-9FF4-6F73B670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518-DFA1-4CA5-9EE8-5D688C86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FE61A-352B-40F1-8278-5EF21A1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91FA6-5B49-4662-BBD2-6AC8519E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16091-B916-4A62-95C0-080FA42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2394C-CC14-4D86-89A4-3A1959A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ADFFB-08F1-400F-B3FA-A376C99E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DC10F-0546-41BA-B2EE-B439C67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D4F48-DE65-49A0-B3B1-E4DE9FC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AEB0F-6358-4252-A9A4-E86EF69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C015E-AEF6-4AEC-A429-4D482584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372A8-58F7-4A84-983D-304E37B9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BE5-48DA-4513-9FE0-562FD968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96918-E5E3-4DDE-BC70-CB1ECF0A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C86B7-6933-4751-A020-4B6760F6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1A716-9010-41E2-AAE2-8E7268C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2AE0D-6430-46FF-9F7A-595A185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0B696-592C-47EF-AE0D-0B8E76B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018A5-DBF7-450C-A676-6F750B6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A01E7-CA7B-4D62-B98F-C7F2636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79CEB-5D17-49E8-B99C-221E76B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BB960-64D2-45A1-9DF6-1A29FA7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75C80-052E-4B2F-8977-5ECD85D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BAE9-302A-4C24-B634-51092FAF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CDB29-7A6D-43E0-8C53-B71BE80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80266-8E24-423C-AFDF-204AEFCF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4BFA4-85D1-4226-8051-A1916047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4586-8F3E-439B-AD7A-2AB882F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74EA-F91A-435F-B98A-25C83F8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7820-CD69-4D3A-8BE2-90BEDDE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4782-2758-48EA-A5B4-A1C9A151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DCA-39DA-46D5-9A86-C99C24B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BF1F-6AAD-4309-8342-B69FCAC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B546-C43C-430A-BCA1-BF8771F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928B-22F4-4581-8D03-ADA5373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B7E3-A9C1-4CE0-A541-EC76B7D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29AC-833E-4787-9E7D-3634824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62D1-AA5F-4DDD-97CA-14E7E1D4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64BE-ED01-49D2-8B89-8B2B278A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5341-D359-4376-B490-CD16AC5F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2EEC-EDE0-4089-955E-B4C36D7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BAB5-04D4-49CD-834D-6746A4DF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EF6-F7B2-4D2C-92DA-2A75E2B7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541A-6522-4072-902B-60CB448F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F60A-176A-4A52-A294-5B381E45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5A37-4272-4EDE-B5E1-B497D7E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760F-297A-4BE8-B76E-10BC4A0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D575-A8D8-4AD6-8DC5-7444572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633F-6334-4AD5-A55B-CBA0EB4F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5D42-C638-4C2B-AF22-9EE0D50A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74B6-B6E4-42A7-B13B-20C5343A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3B42-F38E-46BA-AC72-D7D4CAD5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209F-0F34-4B0C-8C2B-4FEEA3B2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06D-CBEB-4D2D-9748-A005B670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AC51-ED1B-41B0-AF35-91DA904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BD2D-E09E-47BE-8A2B-76F4426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60AC-1027-4DA2-B201-AE2AC338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4CB3-796E-4012-8217-58EB4A09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01F7-3B49-4D28-B1C2-8BF69A4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FF42-FA0B-40EC-9CB9-71D2A3F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B8AE-3018-4AFB-A2A2-AED0C27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663B-C9FF-4F10-A99B-82A07CB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EE21-0035-4A86-BAAF-FDAE0E3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9666-46E2-4C01-B025-2CCA4564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436-D166-4CB2-A4DE-C500756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BCDB-B9C3-4EF2-B544-92AA51E5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6520-0D5B-4F66-B368-8BC25E90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9667-90A5-4DE1-8E5B-6DC7D8A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9DB3-C86E-4830-998C-997D1084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ED1F-E1DF-4FCC-BEE9-D35EF39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A931-6293-4178-9720-136E0EB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9AFE-C660-496D-8FA1-48CAEC4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65BAA-4A02-4999-AFD1-014749FA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4858-4BB0-45D1-A56A-0B67D10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D6A8-544D-4C19-ABB6-4D61F12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A77-793F-4CE0-A038-3EF1982A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CF11-962A-4BFD-B2FB-AB423DB4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27375-3DCC-4918-80A5-7CE5B4CB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66208-1D21-4C4A-AEBF-93A77E6B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81E6-439F-441E-88A1-3ABAA2FB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BB66-721F-4174-9537-FE1C9AF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138A2-A979-4CC7-ACC2-FB581CE1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544C-2FE4-460B-A277-D971340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EC23-CDEB-414B-9962-ED327929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E478-56B9-4EC5-BC45-A8518FB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9788F-227A-4097-9198-76449C4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FF3-4AA0-4094-A177-DC5F1EB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4B1E-6D51-4C7D-AD0A-7ADFC7F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875A-A1F1-4484-8F8C-E320F0E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1FD30-F9AA-4CE4-91AD-1B4884C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5065-CEB5-4A61-B570-1644C19B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32C5-35E3-45CA-BEB6-21042769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F779-DB00-4FE5-90BF-7495C634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78121-5922-4637-A49A-0188D40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FA5F6-1369-4BB3-882B-418DB73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AB5EA-026E-4D19-9C9A-203A4259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BBDD-3359-49D2-BA23-74417BF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A9D-1646-440D-82C9-640AA5D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A9EE-BFEB-41B0-BE2E-89F68C3A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02A54-0FD4-471E-BEA2-694B5CE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20BD-8622-48AD-AF98-DAB7D3B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647E6-0419-4917-B0E4-2727B78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75DD-CA76-4DE2-8C4D-2EC820F2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6BB1E-BA44-4218-91D3-76AED296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19EA-1F2A-4023-84E4-CC5D21FC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3051D-376E-4C8B-8EDC-D455021A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A4A09-2E76-43B9-9AA0-5244B6D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0C28F-66BC-40BF-8956-B298AB2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8E1C-0D86-465B-9B5D-3B440E31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0428-DFA1-4790-9DE8-DA49394A1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6F1-A60D-4434-962A-FA9106A7D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335-8321-4547-AF29-9563CE8C7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3A3D-3287-4D7E-AE13-65B43F175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AB55-B592-423E-ADB1-0798CAB96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A5F-CB81-4897-83BD-E624CBDB1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69A-00BA-4DBD-A317-F435FA24B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F10-FC2E-407D-A71F-EF5867570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040-BF88-4A00-9B46-11A02FC7F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97B9-6412-41D2-8DA7-7C9DF13A0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AEF-D773-4D39-811C-15AFDAC4F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1F18-4C16-460D-ADF0-4B4EBEA1C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C2B-0945-47DE-8F73-09376E21E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B7F1-5CBC-4921-9710-2E9923ACD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6EB-127D-4752-83E3-2A94DBD40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B56-FC9F-46E6-9865-7C84E1489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B22-CD7D-437A-94D0-11E9D344A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9D5B-C855-4180-AC21-CDFC34CD4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965D-931C-4285-9CFE-909DE0057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226-C4C8-40CD-8637-2FFBAF1B5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C65-29E9-4C9B-A5EE-8F21AAA50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BC4-768F-46E0-A472-7B76A68D7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D63-F65A-4C4A-8480-74046C401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3ED-2F59-4D42-B1E0-D1F0CF617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5286-A678-4F59-B33E-F5FF824C6D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76E-3931-480C-8221-368F713EF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2132-AE7B-4047-8E8C-F4AD72D6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CD0-1F20-4299-9575-ADD033C0E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9D5-6122-40C9-80EF-21E566CC06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3F8-E343-466C-8FA0-867383238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DEE-A403-41F8-ACDB-BB52AB48B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8A95-A898-4654-AC3F-9906D49E7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090-A0C7-4364-9275-81FD9B932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732-7DD0-466D-A21B-6DCF3BDC7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04CB-FAE2-46C2-88E3-5D6AA6C7C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BC5C-961D-4657-860D-45864F486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15F-10F9-40AB-A466-B15D62828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F488-9746-414B-9495-89B509163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833-B8DB-4F76-A318-BEEA850BF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2886120"/>
            <a:ext cx="914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047600" y="3138480"/>
            <a:ext cx="70488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77120" cy="55720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1000080" y="2428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1000080" y="4857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447840" y="923760"/>
            <a:ext cx="8248320" cy="501048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1000080" y="928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2643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"/>
          <p:cNvSpPr/>
          <p:nvPr/>
        </p:nvSpPr>
        <p:spPr>
          <a:xfrm>
            <a:off x="1000080" y="4214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76280" y="1628640"/>
            <a:ext cx="8191440" cy="360072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428840" y="207180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3711600" y="2832120"/>
            <a:ext cx="128916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6858000" y="321480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843360" y="4046400"/>
            <a:ext cx="146052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4429080" y="4857840"/>
            <a:ext cx="121464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71680" y="689040"/>
            <a:ext cx="8086680" cy="605772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428840" y="150012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2643120" y="150012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4071960" y="1500120"/>
            <a:ext cx="6429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5643720" y="2714760"/>
            <a:ext cx="10713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7215120" y="271476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3643200" y="3500280"/>
            <a:ext cx="150048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5857920" y="3500280"/>
            <a:ext cx="714240" cy="30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2357280" y="4714920"/>
            <a:ext cx="135756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4307040" y="4735440"/>
            <a:ext cx="85716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1857240" y="5929200"/>
            <a:ext cx="10717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2"/>
          <p:cNvSpPr/>
          <p:nvPr/>
        </p:nvSpPr>
        <p:spPr>
          <a:xfrm>
            <a:off x="5357880" y="5929200"/>
            <a:ext cx="785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3"/>
          <p:cNvSpPr/>
          <p:nvPr/>
        </p:nvSpPr>
        <p:spPr>
          <a:xfrm>
            <a:off x="857160" y="6357960"/>
            <a:ext cx="785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57200" y="847800"/>
            <a:ext cx="8229600" cy="51624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5929200" y="357192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3387600" y="4402080"/>
            <a:ext cx="40824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572160" y="478620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1643040" y="5572080"/>
            <a:ext cx="4078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52600" y="752400"/>
            <a:ext cx="8038800" cy="53532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2357280" y="1928880"/>
            <a:ext cx="4082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